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17D-9F7D-4EF4-A314-0AA357C7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C56-C63A-49F7-B95D-9E4B252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09F-DF8E-4C4F-B4BC-28161D51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563-F5A8-41C0-AE71-15842BD6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600F-D259-4308-A9BB-FD7A29B2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DC52-E505-41ED-86B6-0E0D0A71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E36-6A45-4C39-B9AA-13CDB23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C849-1B05-4A2F-A936-CA02393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4701-B9F3-40E5-85E8-11027A8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5A5C-5950-4F0D-B78B-D07276D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0028-A88C-4241-8D77-70D63C59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86A0-D958-427D-A937-912585B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FB55-B16E-4F5B-B3C0-FC4B0DE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701-0B4C-4BB2-9668-1807525F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9446-B57B-4098-991E-20942BA5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FFB-66AC-4AA3-9778-C6B66526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F270B-FC24-4125-90DA-6914EF27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71FE-FE4D-431B-9F72-C8881C8D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06D1-74ED-4BE3-BFC3-5743E87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F4D1-BA98-4123-95DF-ACA37CF6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1063-3741-4234-9A2A-697679A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494F-3766-4A11-A0B0-1F77265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6C79C-32BC-48ED-83CD-FF57A9C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8CF8-82FA-4E11-A102-FBDDA69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3CAC-3026-4C5D-963A-D0A206E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A2C5-155C-49B0-8E3C-178C39C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FFA3-FFB3-4D8C-9598-A6CCA913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B722-4D44-4227-915F-AF486212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7D6-7816-425F-BE37-D8852FA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E07-D9A9-42CC-A0F8-97330C26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775-F66C-415F-BF8C-4D7BD30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B8C-0894-4130-A416-CFF5F54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E7C-71A2-4679-809A-92C8EDB7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34-B98C-47AA-9C42-D6B6079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1CC-7177-4CF5-A1CA-1E6CBB6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A15-A3A3-4202-A015-7CBF5922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F413-4BCE-42A4-AFD7-9BB29743C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676-9806-40D9-B4F4-4D9782A4E9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6B65-5749-44C7-8D71-972B52D926D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39760" y="312480"/>
            <a:ext cx="6364080" cy="22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Navodila organa upravljanja o izpolnjevanju pogojev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za opravljanje nalog posredniškega organa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v programskem obdobju 2014 - 2020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1.12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18640" y="365040"/>
            <a:ext cx="7067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00000"/>
                </a:solidFill>
                <a:latin typeface="Calibri Light"/>
              </a:rPr>
              <a:t>Kazal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825120" y="1872720"/>
            <a:ext cx="7061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avna podl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plošne smer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Minimalni standar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Vprašanj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225360" y="1262160"/>
            <a:ext cx="829008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3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1/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4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(EU) št. 1300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Izvedbena uredba EU) št. 1011/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J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ZIP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Uredba o porabi sredstev evropske kohezijske politike v Republiki Sloveniji v programskem obdobju 2014–2020 za cilj naložbe za rast in delovna mesta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47360" y="174240"/>
            <a:ext cx="77677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 Light"/>
              </a:rPr>
              <a:t>Pravna podlaga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Content Placeholder 3" descr=""/>
          <p:cNvPicPr/>
          <p:nvPr/>
        </p:nvPicPr>
        <p:blipFill>
          <a:blip r:embed="rId1"/>
          <a:stretch/>
        </p:blipFill>
        <p:spPr>
          <a:xfrm>
            <a:off x="396720" y="1073160"/>
            <a:ext cx="8382240" cy="545616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74640" y="364680"/>
            <a:ext cx="7840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72. člen 1303/201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Content Placeholder 3" descr=""/>
          <p:cNvPicPr/>
          <p:nvPr/>
        </p:nvPicPr>
        <p:blipFill>
          <a:blip r:embed="rId1"/>
          <a:stretch/>
        </p:blipFill>
        <p:spPr>
          <a:xfrm>
            <a:off x="219240" y="1133640"/>
            <a:ext cx="8650080" cy="54990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Splošne smernic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18600" y="1150560"/>
            <a:ext cx="85568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PO mora zagotovi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rganizacijsko shem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notraj NPU z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pisom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azdelitvijo nalo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pokrivajo vse faze izvajanja EKP, s predvidenim št. delovnih mes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 primeru, da je NPU v vlogi upravičenca, mora zagotavljat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čitev funkcij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 zagotavljanjem funkcionalne neodvisnosti pri izvajanju in preverjanju operac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načrtovanje operacij in jamstva o plačilni sposobnosti 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skladnosti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peracij s pravili Evropske unije in Republike Slovenije (pred potrditvij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premlj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rednote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perativnega progr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zvajanje sistema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prečevanje, odkrivanje, evidentiranje, preiskov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 odpravl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nepravilnost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goljuf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mogoč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 strani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ter delovanj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evizorje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nadzornih in tehničnih misij organov Evropske unije in Republike Slovenije ter ukrepanje skladno s priporočili iz končnih poročil mis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everjanj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bave sofinanciranih proizvodov in storitev ter preverjanje, ali so izdatki, ki so jih navedli izvajalci, dejansko nastali ter so v skladu s pravili Evropske unije in Republike Sloven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2560" y="364680"/>
            <a:ext cx="7832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Minimalni standardi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396720" y="880560"/>
            <a:ext cx="828864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celostnih teritorialnih naložb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upravljanje in izvaj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okalnega razvoja, ki ga vodi skupno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jer je to relevant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ravilnega in rednega zbiranja ter vnosa podatkov o izvajanju 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acijskem sistemu OU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ki so potrebni za finančno upravljanje, spremljanje, nadzor in vrednotenje v skladu z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upravičenci in drugi organi, ki so udeleženi v izvajanju operacij,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odijo ločeno knjigovodstvo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za vse transakcije v zvezi z operaci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vzpostavitev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ostopkov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 zagotovitev, da se vsi dokumenti glede izdatkov in preverjanj, ki so potrebni z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zagotovitev ustrezne revizijske sledi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hranijo v skladu s 140. členom Uredbe 1303/2013/EU in navodili 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, d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U in MF-PO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jm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se potrebne podatke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 postopkih in nadzoru, ki se izvaja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zdatkov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, za namene izdaje potrdil, priprave letnih poročil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upoštevanja zahtev gled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nformir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in javnega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bveščanj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zagotavljanje podatkov Evropski komisiji, da ji je omogočeno ocenjevanje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elikih projektov,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kjer je relevant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45840" y="175320"/>
            <a:ext cx="78692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Content Placeholder 3" descr=""/>
          <p:cNvPicPr/>
          <p:nvPr/>
        </p:nvPicPr>
        <p:blipFill>
          <a:blip r:embed="rId1"/>
          <a:stretch/>
        </p:blipFill>
        <p:spPr>
          <a:xfrm>
            <a:off x="396720" y="1231920"/>
            <a:ext cx="8345520" cy="5364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3520" y="365040"/>
            <a:ext cx="789156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c00000"/>
                </a:solidFill>
                <a:latin typeface="Calibri Light"/>
              </a:rPr>
              <a:t>Nič ni stalnega </a:t>
            </a:r>
            <a:r>
              <a:rPr b="0" lang="sl-SI" sz="3200" spc="-1" strike="noStrike">
                <a:solidFill>
                  <a:srgbClr val="c00000"/>
                </a:solidFill>
                <a:latin typeface="Calibri Light"/>
              </a:rPr>
              <a:t>(razen sprememb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4" descr="http://internetnizasluzek.blog.siol.net/files/2011/08/vprasanje-300x300.jpg"/>
          <p:cNvPicPr/>
          <p:nvPr/>
        </p:nvPicPr>
        <p:blipFill>
          <a:blip r:embed="rId1"/>
          <a:stretch/>
        </p:blipFill>
        <p:spPr>
          <a:xfrm>
            <a:off x="2211480" y="1155600"/>
            <a:ext cx="4422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Irena Brcko Kogoj</cp:lastModifiedBy>
  <cp:lastPrinted>2015-11-27T07:19:45Z</cp:lastPrinted>
  <dcterms:modified xsi:type="dcterms:W3CDTF">2015-11-30T09:35:42Z</dcterms:modified>
  <cp:revision>68</cp:revision>
  <dc:subject/>
  <dc:title>PowerPoint Presentation</dc:title>
</cp:coreProperties>
</file>